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wmf" ContentType="image/x-wmf"/>
  <Override PartName="/ppt/media/image14.jpeg" ContentType="image/jpeg"/>
  <Override PartName="/ppt/media/image9.jpeg" ContentType="image/jpeg"/>
  <Override PartName="/ppt/media/image17.png" ContentType="image/png"/>
  <Override PartName="/ppt/media/image2.png" ContentType="image/png"/>
  <Override PartName="/ppt/media/image4.jpeg" ContentType="image/jpeg"/>
  <Override PartName="/ppt/media/image16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B57B-BAE7-4D21-862A-BB1F96E6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156C-9BFC-4413-8E7A-E4A9CDA0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EDF-608F-4351-BC67-2BF98E97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D94-9324-4ABF-A8B3-42D74331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C0052-A16C-40FA-90EE-DD813D13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38E3D-B589-432E-8CFE-CDDFB565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FC9AC-5F04-4A01-8996-176508BA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CC1B0-3ABD-4041-89EF-75CD3DC7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25FD7-7A79-405B-97F0-4FD36A79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2D1A6-C82F-41CB-AA3D-B30CB76D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02019-3771-4EB5-9251-8C8F70F5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D2D-EEA3-4282-9DC8-D3E17254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A4AF1-9F19-4A51-83B1-38663420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23430-7F65-4712-B0E7-DFE94CE6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F50D1-E097-4644-B90E-D4F97021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87DAD-E467-433F-9BBB-9B3D7D8F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41FFF-7E0E-49AC-B135-FCC07AB4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129-4E47-40F2-A1E8-74D8BBD9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7B4D-5CD5-4169-9DA1-BD9B4B03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D09-0156-40D4-8826-788D7780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39C-B847-462D-BF0B-6B58C6CC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A5C-CDB6-495D-87F0-D76943F3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1C85-E283-471F-A033-6DACB85E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672F-F276-49DD-B518-3D9C2601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D155-A4B1-4C55-BE4D-34DAD5F07F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2050-0CD8-4E73-A773-237E0DB5D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~PP2916.WAV" TargetMode="External"/><Relationship Id="rId3" Type="http://schemas.microsoft.com/office/2007/relationships/media" Target="file:///tmp/home/.config/libreoffice/4/user/gallery/~PP2916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file:///tmp/home/.config/libreoffice/4/user/gallery/~PP2648.WAV" TargetMode="External"/><Relationship Id="rId4" Type="http://schemas.microsoft.com/office/2007/relationships/media" Target="file:///tmp/home/.config/libreoffice/4/user/gallery/~PP264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file:///tmp/home/.config/libreoffice/4/user/gallery/~PP1474.WAV" TargetMode="External"/><Relationship Id="rId4" Type="http://schemas.microsoft.com/office/2007/relationships/media" Target="file:///tmp/home/.config/libreoffice/4/user/gallery/~PP147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file:///tmp/home/.config/libreoffice/4/user/gallery/~PP581.WAV" TargetMode="External"/><Relationship Id="rId4" Type="http://schemas.microsoft.com/office/2007/relationships/media" Target="file:///tmp/home/.config/libreoffice/4/user/gallery/~PP581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file:///tmp/home/.config/libreoffice/4/user/gallery/~PP2220.WAV" TargetMode="External"/><Relationship Id="rId4" Type="http://schemas.microsoft.com/office/2007/relationships/media" Target="file:///tmp/home/.config/libreoffice/4/user/gallery/~PP2220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audio" Target="file:///tmp/home/.config/libreoffice/4/user/gallery/~PP1342.WAV" TargetMode="External"/><Relationship Id="rId4" Type="http://schemas.microsoft.com/office/2007/relationships/media" Target="file:///tmp/home/.config/libreoffice/4/user/gallery/~PP1342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audio" Target="file:///tmp/home/.config/libreoffice/4/user/gallery/~PP75.WAV" TargetMode="External"/><Relationship Id="rId4" Type="http://schemas.microsoft.com/office/2007/relationships/media" Target="file:///tmp/home/.config/libreoffice/4/user/gallery/~PP75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audio" Target="file:///tmp/home/.config/libreoffice/4/user/gallery/~PP2918.WAV" TargetMode="External"/><Relationship Id="rId4" Type="http://schemas.microsoft.com/office/2007/relationships/media" Target="file:///tmp/home/.config/libreoffice/4/user/gallery/~PP291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~PP2242.WAV" TargetMode="External"/><Relationship Id="rId4" Type="http://schemas.microsoft.com/office/2007/relationships/media" Target="file:///tmp/home/.config/libreoffice/4/user/gallery/~PP2242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file:///tmp/home/.config/libreoffice/4/user/gallery/~PP1131.WAV" TargetMode="External"/><Relationship Id="rId4" Type="http://schemas.microsoft.com/office/2007/relationships/media" Target="file:///tmp/home/.config/libreoffice/4/user/gallery/~PP1131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file:///tmp/home/.config/libreoffice/4/user/gallery/~PP4068.WAV" TargetMode="External"/><Relationship Id="rId4" Type="http://schemas.microsoft.com/office/2007/relationships/media" Target="file:///tmp/home/.config/libreoffice/4/user/gallery/~PP406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file:///tmp/home/.config/libreoffice/4/user/gallery/~PP3066.WAV" TargetMode="External"/><Relationship Id="rId4" Type="http://schemas.microsoft.com/office/2007/relationships/media" Target="file:///tmp/home/.config/libreoffice/4/user/gallery/~PP3066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file:///tmp/home/.config/libreoffice/4/user/gallery/~PP2626.WAV" TargetMode="External"/><Relationship Id="rId4" Type="http://schemas.microsoft.com/office/2007/relationships/media" Target="file:///tmp/home/.config/libreoffice/4/user/gallery/~PP2626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file:///tmp/home/.config/libreoffice/4/user/gallery/~PP2296.WAV" TargetMode="External"/><Relationship Id="rId4" Type="http://schemas.microsoft.com/office/2007/relationships/media" Target="file:///tmp/home/.config/libreoffice/4/user/gallery/~PP2296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file:///tmp/home/.config/libreoffice/4/user/gallery/~PP2278.WAV" TargetMode="External"/><Relationship Id="rId5" Type="http://schemas.microsoft.com/office/2007/relationships/media" Target="file:///tmp/home/.config/libreoffice/4/user/gallery/~PP2278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audio" Target="file:///tmp/home/.config/libreoffice/4/user/gallery/~PP2869.WAV" TargetMode="External"/><Relationship Id="rId5" Type="http://schemas.microsoft.com/office/2007/relationships/media" Target="file:///tmp/home/.config/libreoffice/4/user/gallery/~PP2869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001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"/>
              </a:rPr>
              <a:t>Meine Ferie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Veronika Mitch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5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49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habe mit dem Fische gespiel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52680" y="38088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5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habe geschwomme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538488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8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habe fur Nemo gesuche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5079960" cy="3860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1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449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habe die Sydney Observatory besucht. Ich habe die Sterne geseh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518184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4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habe im Resturant gegess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7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"/>
              </a:rPr>
              <a:t>Es gefallt mir gut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0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u musst Australien besuche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4670640" cy="3305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715000" y="3733920"/>
            <a:ext cx="2895480" cy="1218960"/>
          </a:xfrm>
          <a:prstGeom prst="leftArrow">
            <a:avLst>
              <a:gd name="adj1" fmla="val 50000"/>
              <a:gd name="adj2" fmla="val 59384"/>
            </a:avLst>
          </a:prstGeom>
          <a:solidFill>
            <a:srgbClr val="f7071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war in Australi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0400" y="2133720"/>
            <a:ext cx="5016600" cy="3768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8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war in Hotel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1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war in Sydney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2446200"/>
            <a:ext cx="4648320" cy="3718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4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96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habe die Oper besuch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724640" cy="3533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7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7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habe mit dem Strauss getanz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038480" y="304920"/>
            <a:ext cx="4572000" cy="3454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0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habe in die Outbacks spazier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5615280" cy="3755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3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95320" y="35809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habe di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reat Barrier Ree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seh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3810240" cy="2486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953160" cy="5276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7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habe zum 32 Wallaby Way gefahr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191120" y="368604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rot="286800">
            <a:off x="4723920" y="59436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allaby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066680" y="762120"/>
            <a:ext cx="3429000" cy="1985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2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8:07:00Z</dcterms:created>
  <dc:creator>CUSD220</dc:creator>
  <dc:description/>
  <dc:language>en-US</dc:language>
  <cp:lastModifiedBy>CUSD220</cp:lastModifiedBy>
  <dcterms:modified xsi:type="dcterms:W3CDTF">2011-11-28T13:00:39Z</dcterms:modified>
  <cp:revision>4</cp:revision>
  <dc:subject/>
  <dc:title>Meine Ferien</dc:title>
</cp:coreProperties>
</file>